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F68-C5AE-4D4F-903C-835C87D2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01E-1FB1-4BD2-816A-8372294C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16BD-EFC1-49D7-A299-9C45B288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7C22-AF1D-4D7D-AD19-53366DFC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0B0A-9444-4CE7-8EFA-9B989E7F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EA1-B3A2-44F9-B3B9-3FE1FAF2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D159-03AC-45F9-AA3D-EBC71465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C3F2-BD69-4CCF-A25F-DD574B5E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3AEC-3B9E-47D4-98B6-664D20D9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B752-9D68-4FA0-9059-C97AB686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C986-7D87-4BAA-8E4B-EA897725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6D33-6CFE-46FD-BE22-C26099B4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B0718-AE91-4E9C-A1CE-7B4A7260AE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11804-8587-49EC-BCBD-857C76942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demo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21:32:46Z</dcterms:created>
  <dc:creator>Kurt Schwehr</dc:creator>
  <dc:description/>
  <dc:language>en-US</dc:language>
  <cp:lastModifiedBy>Kurt Schwehr</cp:lastModifiedBy>
  <dcterms:modified xsi:type="dcterms:W3CDTF">2011-09-12T21:34:44Z</dcterms:modified>
  <cp:revision>2</cp:revision>
  <dc:subject/>
  <dc:title>A demo ppt</dc:title>
</cp:coreProperties>
</file>